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20.wmf" ContentType="image/x-wmf"/>
  <Override PartName="/ppt/media/image4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C3FD-9E47-4569-904F-5755D139FA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BC05-1DF1-4FF8-84DC-880A16FC03C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1F9B-D168-44E2-8E45-59B48F8C8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C5D9-BDCA-4E33-AE01-DDBB8EC1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56B9-8928-415F-A94A-A74E337C5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8131-5B5A-4914-B02B-0723D0696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8CC5-886A-4545-B866-055388FC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3E0F-E430-4FD4-8BEE-F0504B52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BA97-5A87-4E49-8D5D-0E116B76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050D-FEB3-4CF7-B0D9-1F46F774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0811-1580-4A21-A45E-2979172F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9C84-78B8-45FB-B92B-69840068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F9EF-B4A6-40FF-8548-66D2AA1A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0F2E-8A2C-47DE-9C60-18EAE9BC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568D-0A4F-416C-B091-EF15D8F9B43F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82760" y="1152360"/>
            <a:ext cx="822960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Bolilla 7 (Ing. en Alim.):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Metabolismo de lípidos.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igestión y absorción. Rol como nutrientes. Resíntesis intestinal de triglicéridos. </a:t>
            </a:r>
            <a:r>
              <a:rPr b="0" lang="es-ES" sz="2000" spc="-1" strike="noStrike">
                <a:solidFill>
                  <a:srgbClr val="ff0000"/>
                </a:solidFill>
                <a:latin typeface="Calibri"/>
              </a:rPr>
              <a:t>Transporte de lípidos. Rol de las lipoproteínas. Composición química y funciones.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Oxidación de ácidos grasos saturados. Carnitina. Activación, beta oxidación, distintas etapas. Oxidación de los ácidos grasos insaturados y con numero impar de átomos de carbono. Balance energético. Formación de cuerpos cetónicos. Oxidación peroxisómica de ácidos grasos. Ciclo del glioxilato: Reacciones y enzimas participantes. Localización. Función. Biosíntesis de ácidos grasos saturados. Acido graso sintetasa. Regulación. Síntesis de ácidos grasos insaturados. Acidos grasos esenciales. Biosíntesis de triglicéridos y fosfoglicéridos. Síntesis de colesterol: Generalidades. El colesterol como precursor de otros compuestos de importancia biológic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Calibri"/>
              </a:rPr>
              <a:t>BOLILLA 5 (Lic. en Biol. Molec</a:t>
            </a:r>
            <a:r>
              <a:rPr b="1" i="1" lang="es-AR" sz="2000" spc="-1" strike="noStrike">
                <a:solidFill>
                  <a:srgbClr val="000000"/>
                </a:solidFill>
                <a:latin typeface="Calibri"/>
              </a:rPr>
              <a:t>.)</a:t>
            </a:r>
            <a:r>
              <a:rPr b="0" lang="es-AR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IPIDOS. Digestión y absorción. </a:t>
            </a:r>
            <a:r>
              <a:rPr b="0" lang="es-ES" sz="2000" spc="-1" strike="noStrike">
                <a:solidFill>
                  <a:srgbClr val="ff0000"/>
                </a:solidFill>
                <a:latin typeface="Calibri"/>
              </a:rPr>
              <a:t>METABOLISMO:  transporte de lípidos en el sistema circulatorio. Lipoproteínas.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gradación de ácidos grasos saturados. Beta oxidación. Oxidación de ácidos grasos no saturados. Cuerpos cetónic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50920" y="11592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Calibri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                           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Calibri"/>
              </a:rPr>
              <a:t>Lic. en Biol. Molec. e Ing. en Ali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rcRect l="4165" t="8892" r="6630" b="8840"/>
          <a:stretch/>
        </p:blipFill>
        <p:spPr>
          <a:xfrm>
            <a:off x="714240" y="1143000"/>
            <a:ext cx="7643880" cy="5286240"/>
          </a:xfrm>
          <a:prstGeom prst="rect">
            <a:avLst/>
          </a:prstGeom>
          <a:ln w="0">
            <a:noFill/>
          </a:ln>
        </p:spPr>
      </p:pic>
      <p:sp>
        <p:nvSpPr>
          <p:cNvPr id="108" name="Rectángulo 4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Arial Rounded MT Bold"/>
              </a:rPr>
              <a:t>Metabolismo de Quilomicro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Cerrar corchete"/>
          <p:cNvSpPr/>
          <p:nvPr/>
        </p:nvSpPr>
        <p:spPr>
          <a:xfrm rot="5400000">
            <a:off x="3661560" y="3625200"/>
            <a:ext cx="357120" cy="3394080"/>
          </a:xfrm>
          <a:custGeom>
            <a:avLst/>
            <a:gdLst>
              <a:gd name="textAreaLeft" fmla="*/ 0 w 357120"/>
              <a:gd name="textAreaRight" fmla="*/ 250560 w 357120"/>
              <a:gd name="textAreaTop" fmla="*/ 14760 h 3394080"/>
              <a:gd name="textAreaBottom" fmla="*/ 3379320 h 339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5"/>
                  <a:pt x="21600" y="189"/>
                </a:cubicBezTo>
                <a:lnTo>
                  <a:pt x="21600" y="21411"/>
                </a:lnTo>
                <a:cubicBezTo>
                  <a:pt x="21600" y="21506"/>
                  <a:pt x="108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Arial Rounded MT Bold"/>
              </a:rPr>
              <a:t>Metabolismo de Quilomicro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37 Grupo"/>
          <p:cNvGrpSpPr/>
          <p:nvPr/>
        </p:nvGrpSpPr>
        <p:grpSpPr>
          <a:xfrm>
            <a:off x="5446800" y="1914120"/>
            <a:ext cx="1716840" cy="1315800"/>
            <a:chOff x="5446800" y="1914120"/>
            <a:chExt cx="1716840" cy="1315800"/>
          </a:xfrm>
        </p:grpSpPr>
        <p:sp>
          <p:nvSpPr>
            <p:cNvPr id="112" name="Línea 24"/>
            <p:cNvSpPr/>
            <p:nvPr/>
          </p:nvSpPr>
          <p:spPr>
            <a:xfrm flipV="1">
              <a:off x="5525640" y="2518200"/>
              <a:ext cx="1638000" cy="71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Cuadro de texto 26"/>
            <p:cNvSpPr/>
            <p:nvPr/>
          </p:nvSpPr>
          <p:spPr>
            <a:xfrm rot="20231400">
              <a:off x="5518440" y="2150280"/>
              <a:ext cx="1347840" cy="642600"/>
            </a:xfrm>
            <a:prstGeom prst="rect">
              <a:avLst/>
            </a:prstGeom>
            <a:noFill/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b050"/>
                  </a:solidFill>
                  <a:latin typeface="Times New Roman"/>
                </a:rPr>
                <a:t> </a:t>
              </a:r>
              <a:r>
                <a:rPr b="1" i="1" lang="es-ES" sz="1800" spc="-1" strike="noStrike">
                  <a:solidFill>
                    <a:srgbClr val="00b050"/>
                  </a:solidFill>
                  <a:latin typeface="Times New Roman"/>
                </a:rPr>
                <a:t>Lipoprotein lipas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" name="Rectángulo 27"/>
          <p:cNvSpPr/>
          <p:nvPr/>
        </p:nvSpPr>
        <p:spPr>
          <a:xfrm>
            <a:off x="8369280" y="3289320"/>
            <a:ext cx="631800" cy="355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C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Grupo 42"/>
          <p:cNvGrpSpPr/>
          <p:nvPr/>
        </p:nvGrpSpPr>
        <p:grpSpPr>
          <a:xfrm>
            <a:off x="0" y="2637000"/>
            <a:ext cx="2571840" cy="1591920"/>
            <a:chOff x="0" y="2637000"/>
            <a:chExt cx="2571840" cy="1591920"/>
          </a:xfrm>
        </p:grpSpPr>
        <p:grpSp>
          <p:nvGrpSpPr>
            <p:cNvPr id="116" name="Grupo 10"/>
            <p:cNvGrpSpPr/>
            <p:nvPr/>
          </p:nvGrpSpPr>
          <p:grpSpPr>
            <a:xfrm>
              <a:off x="785880" y="2637000"/>
              <a:ext cx="792000" cy="1152000"/>
              <a:chOff x="785880" y="2637000"/>
              <a:chExt cx="792000" cy="1152000"/>
            </a:xfrm>
          </p:grpSpPr>
          <p:sp>
            <p:nvSpPr>
              <p:cNvPr id="117" name="Rectángulo 9"/>
              <p:cNvSpPr/>
              <p:nvPr/>
            </p:nvSpPr>
            <p:spPr>
              <a:xfrm>
                <a:off x="785880" y="2637000"/>
                <a:ext cx="792000" cy="5029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ff3300"/>
                    </a:solidFill>
                    <a:latin typeface="Calibri"/>
                  </a:rPr>
                  <a:t>B48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Elipse 8"/>
              <p:cNvSpPr/>
              <p:nvPr/>
            </p:nvSpPr>
            <p:spPr>
              <a:xfrm>
                <a:off x="785880" y="2997000"/>
                <a:ext cx="792000" cy="79200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&gt;TG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9" name="Cuadro de texto 33"/>
            <p:cNvSpPr/>
            <p:nvPr/>
          </p:nvSpPr>
          <p:spPr>
            <a:xfrm>
              <a:off x="0" y="3860640"/>
              <a:ext cx="257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QM recién sintetizad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44 Grupo"/>
          <p:cNvGrpSpPr/>
          <p:nvPr/>
        </p:nvGrpSpPr>
        <p:grpSpPr>
          <a:xfrm>
            <a:off x="7215120" y="1714680"/>
            <a:ext cx="1074600" cy="1171080"/>
            <a:chOff x="7215120" y="1714680"/>
            <a:chExt cx="1074600" cy="1171080"/>
          </a:xfrm>
        </p:grpSpPr>
        <p:sp>
          <p:nvSpPr>
            <p:cNvPr id="121" name="Rectángulo 27"/>
            <p:cNvSpPr/>
            <p:nvPr/>
          </p:nvSpPr>
          <p:spPr>
            <a:xfrm>
              <a:off x="7215120" y="2482200"/>
              <a:ext cx="632160" cy="3758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0504d"/>
                  </a:solidFill>
                  <a:latin typeface="Calibri"/>
                </a:rPr>
                <a:t>CII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2" name="Grupo 40"/>
            <p:cNvGrpSpPr/>
            <p:nvPr/>
          </p:nvGrpSpPr>
          <p:grpSpPr>
            <a:xfrm>
              <a:off x="7429320" y="1714680"/>
              <a:ext cx="860400" cy="1171080"/>
              <a:chOff x="7429320" y="1714680"/>
              <a:chExt cx="860400" cy="1171080"/>
            </a:xfrm>
          </p:grpSpPr>
          <p:sp>
            <p:nvSpPr>
              <p:cNvPr id="123" name="Rectángulo 29"/>
              <p:cNvSpPr/>
              <p:nvPr/>
            </p:nvSpPr>
            <p:spPr>
              <a:xfrm>
                <a:off x="7858080" y="2429280"/>
                <a:ext cx="431640" cy="45648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c0504d"/>
                    </a:solidFill>
                    <a:latin typeface="Calibri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Rectángulo 31"/>
              <p:cNvSpPr/>
              <p:nvPr/>
            </p:nvSpPr>
            <p:spPr>
              <a:xfrm>
                <a:off x="7429320" y="1714680"/>
                <a:ext cx="792360" cy="53172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ff3300"/>
                    </a:solidFill>
                    <a:latin typeface="Calibri"/>
                  </a:rPr>
                  <a:t>B48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Elipse 32"/>
              <p:cNvSpPr/>
              <p:nvPr/>
            </p:nvSpPr>
            <p:spPr>
              <a:xfrm>
                <a:off x="7562880" y="2144160"/>
                <a:ext cx="504720" cy="456120"/>
              </a:xfrm>
              <a:prstGeom prst="ellipse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&lt;TG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26" name="45 Grupo"/>
          <p:cNvGrpSpPr/>
          <p:nvPr/>
        </p:nvGrpSpPr>
        <p:grpSpPr>
          <a:xfrm>
            <a:off x="7219800" y="5072040"/>
            <a:ext cx="1513080" cy="1569600"/>
            <a:chOff x="7219800" y="5072040"/>
            <a:chExt cx="1513080" cy="1569600"/>
          </a:xfrm>
        </p:grpSpPr>
        <p:sp>
          <p:nvSpPr>
            <p:cNvPr id="127" name="Línea 35"/>
            <p:cNvSpPr/>
            <p:nvPr/>
          </p:nvSpPr>
          <p:spPr>
            <a:xfrm>
              <a:off x="7929360" y="5072040"/>
              <a:ext cx="0" cy="57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8" name="Grupo 39"/>
            <p:cNvGrpSpPr/>
            <p:nvPr/>
          </p:nvGrpSpPr>
          <p:grpSpPr>
            <a:xfrm>
              <a:off x="7219800" y="5786640"/>
              <a:ext cx="1513080" cy="855000"/>
              <a:chOff x="7219800" y="5786640"/>
              <a:chExt cx="1513080" cy="855000"/>
            </a:xfrm>
          </p:grpSpPr>
          <p:sp>
            <p:nvSpPr>
              <p:cNvPr id="129" name="Elipse 38"/>
              <p:cNvSpPr/>
              <p:nvPr/>
            </p:nvSpPr>
            <p:spPr>
              <a:xfrm>
                <a:off x="7643520" y="5786640"/>
                <a:ext cx="642960" cy="50652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LRP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Cuadro de texto 36"/>
              <p:cNvSpPr/>
              <p:nvPr/>
            </p:nvSpPr>
            <p:spPr>
              <a:xfrm>
                <a:off x="7219800" y="6181920"/>
                <a:ext cx="151308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Times New Roman"/>
                  </a:rPr>
                  <a:t>HIGADO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31" name="Línea 41"/>
          <p:cNvSpPr/>
          <p:nvPr/>
        </p:nvSpPr>
        <p:spPr>
          <a:xfrm>
            <a:off x="8572680" y="3071880"/>
            <a:ext cx="14436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34 Grupo"/>
          <p:cNvGrpSpPr/>
          <p:nvPr/>
        </p:nvGrpSpPr>
        <p:grpSpPr>
          <a:xfrm>
            <a:off x="2411280" y="3000240"/>
            <a:ext cx="1297080" cy="2157120"/>
            <a:chOff x="2411280" y="3000240"/>
            <a:chExt cx="1297080" cy="2157120"/>
          </a:xfrm>
        </p:grpSpPr>
        <p:sp>
          <p:nvSpPr>
            <p:cNvPr id="133" name="Línea 17"/>
            <p:cNvSpPr/>
            <p:nvPr/>
          </p:nvSpPr>
          <p:spPr>
            <a:xfrm>
              <a:off x="2411280" y="3428640"/>
              <a:ext cx="129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4" name="Grupo 37"/>
            <p:cNvGrpSpPr/>
            <p:nvPr/>
          </p:nvGrpSpPr>
          <p:grpSpPr>
            <a:xfrm>
              <a:off x="2411280" y="3644640"/>
              <a:ext cx="1079640" cy="1512720"/>
              <a:chOff x="2411280" y="3644640"/>
              <a:chExt cx="1079640" cy="1512720"/>
            </a:xfrm>
          </p:grpSpPr>
          <p:sp>
            <p:nvSpPr>
              <p:cNvPr id="135" name="Rectángulo 23"/>
              <p:cNvSpPr/>
              <p:nvPr/>
            </p:nvSpPr>
            <p:spPr>
              <a:xfrm>
                <a:off x="2771640" y="4723920"/>
                <a:ext cx="574920" cy="4334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Calibri"/>
                  </a:rPr>
                  <a:t>AI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Rectángulo 19"/>
              <p:cNvSpPr/>
              <p:nvPr/>
            </p:nvSpPr>
            <p:spPr>
              <a:xfrm>
                <a:off x="2411280" y="3644640"/>
                <a:ext cx="574920" cy="43344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c0504d"/>
                    </a:solidFill>
                    <a:latin typeface="Calibri"/>
                  </a:rPr>
                  <a:t>CII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Rectángulo 20"/>
              <p:cNvSpPr/>
              <p:nvPr/>
            </p:nvSpPr>
            <p:spPr>
              <a:xfrm>
                <a:off x="3059280" y="3644640"/>
                <a:ext cx="431640" cy="43164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c0504d"/>
                    </a:solidFill>
                    <a:latin typeface="Calibri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Elipse 18"/>
              <p:cNvSpPr/>
              <p:nvPr/>
            </p:nvSpPr>
            <p:spPr>
              <a:xfrm>
                <a:off x="2627280" y="4005000"/>
                <a:ext cx="792360" cy="7920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HDL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9" name="Línea 21"/>
            <p:cNvSpPr/>
            <p:nvPr/>
          </p:nvSpPr>
          <p:spPr>
            <a:xfrm flipV="1">
              <a:off x="2987640" y="3499920"/>
              <a:ext cx="28872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33 CuadroTexto"/>
            <p:cNvSpPr/>
            <p:nvPr/>
          </p:nvSpPr>
          <p:spPr>
            <a:xfrm>
              <a:off x="2428200" y="3000240"/>
              <a:ext cx="109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53735"/>
                  </a:solidFill>
                  <a:latin typeface="Calibri"/>
                </a:rPr>
                <a:t>En sang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" name="36 Grupo"/>
          <p:cNvGrpSpPr/>
          <p:nvPr/>
        </p:nvGrpSpPr>
        <p:grpSpPr>
          <a:xfrm>
            <a:off x="3864240" y="2630520"/>
            <a:ext cx="1896840" cy="1953000"/>
            <a:chOff x="3864240" y="2630520"/>
            <a:chExt cx="1896840" cy="1953000"/>
          </a:xfrm>
        </p:grpSpPr>
        <p:grpSp>
          <p:nvGrpSpPr>
            <p:cNvPr id="142" name="Grupo 16"/>
            <p:cNvGrpSpPr/>
            <p:nvPr/>
          </p:nvGrpSpPr>
          <p:grpSpPr>
            <a:xfrm>
              <a:off x="4000680" y="2630520"/>
              <a:ext cx="1295280" cy="1441440"/>
              <a:chOff x="4000680" y="2630520"/>
              <a:chExt cx="1295280" cy="1441440"/>
            </a:xfrm>
          </p:grpSpPr>
          <p:sp>
            <p:nvSpPr>
              <p:cNvPr id="143" name="Rectángulo 14"/>
              <p:cNvSpPr/>
              <p:nvPr/>
            </p:nvSpPr>
            <p:spPr>
              <a:xfrm>
                <a:off x="4864320" y="3638520"/>
                <a:ext cx="431640" cy="43164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c0504d"/>
                    </a:solidFill>
                    <a:latin typeface="Calibri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Rectángulo 15"/>
              <p:cNvSpPr/>
              <p:nvPr/>
            </p:nvSpPr>
            <p:spPr>
              <a:xfrm>
                <a:off x="4000680" y="3638520"/>
                <a:ext cx="574560" cy="43344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c0504d"/>
                    </a:solidFill>
                    <a:latin typeface="Calibri"/>
                  </a:rPr>
                  <a:t>CII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Rectángulo 12"/>
              <p:cNvSpPr/>
              <p:nvPr/>
            </p:nvSpPr>
            <p:spPr>
              <a:xfrm>
                <a:off x="4359240" y="2630520"/>
                <a:ext cx="792360" cy="50292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ff3300"/>
                    </a:solidFill>
                    <a:latin typeface="Calibri"/>
                  </a:rPr>
                  <a:t>B48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Elipse 13"/>
              <p:cNvSpPr/>
              <p:nvPr/>
            </p:nvSpPr>
            <p:spPr>
              <a:xfrm>
                <a:off x="4287960" y="2990880"/>
                <a:ext cx="792000" cy="792000"/>
              </a:xfrm>
              <a:prstGeom prst="ellipse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&gt;TG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7" name="35 CuadroTexto"/>
            <p:cNvSpPr/>
            <p:nvPr/>
          </p:nvSpPr>
          <p:spPr>
            <a:xfrm>
              <a:off x="3864240" y="4215240"/>
              <a:ext cx="189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QM en circulació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" name="Grupo 40"/>
          <p:cNvGrpSpPr/>
          <p:nvPr/>
        </p:nvGrpSpPr>
        <p:grpSpPr>
          <a:xfrm>
            <a:off x="7215120" y="3429000"/>
            <a:ext cx="1228680" cy="1657080"/>
            <a:chOff x="7215120" y="3429000"/>
            <a:chExt cx="1228680" cy="1657080"/>
          </a:xfrm>
        </p:grpSpPr>
        <p:sp>
          <p:nvSpPr>
            <p:cNvPr id="149" name="Rectángulo 29"/>
            <p:cNvSpPr/>
            <p:nvPr/>
          </p:nvSpPr>
          <p:spPr>
            <a:xfrm>
              <a:off x="7797600" y="4014720"/>
              <a:ext cx="432000" cy="43200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0504d"/>
                  </a:solidFill>
                  <a:latin typeface="Calibri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Rectángulo 31"/>
            <p:cNvSpPr/>
            <p:nvPr/>
          </p:nvSpPr>
          <p:spPr>
            <a:xfrm>
              <a:off x="7300800" y="3429000"/>
              <a:ext cx="727200" cy="58572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3300"/>
                  </a:solidFill>
                  <a:latin typeface="Calibri"/>
                </a:rPr>
                <a:t>B48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Elipse 32"/>
            <p:cNvSpPr/>
            <p:nvPr/>
          </p:nvSpPr>
          <p:spPr>
            <a:xfrm>
              <a:off x="7431120" y="3862440"/>
              <a:ext cx="504720" cy="431640"/>
            </a:xfrm>
            <a:prstGeom prst="ellipse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&lt;T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Cuadro de texto 34"/>
            <p:cNvSpPr/>
            <p:nvPr/>
          </p:nvSpPr>
          <p:spPr>
            <a:xfrm>
              <a:off x="7215120" y="4443480"/>
              <a:ext cx="122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QM      remanent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" name="Elipse 18"/>
          <p:cNvSpPr/>
          <p:nvPr/>
        </p:nvSpPr>
        <p:spPr>
          <a:xfrm>
            <a:off x="8352000" y="3571920"/>
            <a:ext cx="792000" cy="792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HD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36 Imagen" descr="trigliceridos.jpg"/>
          <p:cNvPicPr/>
          <p:nvPr/>
        </p:nvPicPr>
        <p:blipFill>
          <a:blip r:embed="rId1"/>
          <a:srcRect l="0" t="14467" r="0" b="0"/>
          <a:stretch/>
        </p:blipFill>
        <p:spPr>
          <a:xfrm>
            <a:off x="1000080" y="1714680"/>
            <a:ext cx="7143840" cy="35715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 Rounded MT Bold"/>
              </a:rPr>
              <a:t>ACCION DE LA LIPOPROTEIN LIPASA (LPL) Y LIPASA HEPATICA (L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Cuadro de texto 5"/>
          <p:cNvSpPr/>
          <p:nvPr/>
        </p:nvSpPr>
        <p:spPr>
          <a:xfrm>
            <a:off x="1258920" y="292428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Línea 73"/>
          <p:cNvSpPr/>
          <p:nvPr/>
        </p:nvSpPr>
        <p:spPr>
          <a:xfrm>
            <a:off x="5581800" y="52149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Cuadro de texto 74"/>
          <p:cNvSpPr/>
          <p:nvPr/>
        </p:nvSpPr>
        <p:spPr>
          <a:xfrm>
            <a:off x="5000760" y="58039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imes New Roman"/>
              </a:rPr>
              <a:t>HIG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Cuadro de texto 75"/>
          <p:cNvSpPr/>
          <p:nvPr/>
        </p:nvSpPr>
        <p:spPr>
          <a:xfrm>
            <a:off x="6585120" y="587052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b050"/>
                </a:solidFill>
                <a:latin typeface="Times New Roman"/>
              </a:rPr>
              <a:t>T.ADIPOSO, MUSCULAR, MAMA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Línea 76"/>
          <p:cNvSpPr/>
          <p:nvPr/>
        </p:nvSpPr>
        <p:spPr>
          <a:xfrm>
            <a:off x="7286760" y="535320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35 CuadroTexto"/>
          <p:cNvSpPr/>
          <p:nvPr/>
        </p:nvSpPr>
        <p:spPr>
          <a:xfrm>
            <a:off x="3952800" y="2714760"/>
            <a:ext cx="13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LPL ó L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lipse 11"/>
          <p:cNvSpPr/>
          <p:nvPr/>
        </p:nvSpPr>
        <p:spPr>
          <a:xfrm>
            <a:off x="3419640" y="4581360"/>
            <a:ext cx="652320" cy="633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ID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Tg-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 Rounded MT Bold"/>
              </a:rPr>
              <a:t>Metabolismo de las VLDL, IDL, LD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Grupo 8"/>
          <p:cNvGrpSpPr/>
          <p:nvPr/>
        </p:nvGrpSpPr>
        <p:grpSpPr>
          <a:xfrm>
            <a:off x="182520" y="2786040"/>
            <a:ext cx="2532240" cy="1513080"/>
            <a:chOff x="182520" y="2786040"/>
            <a:chExt cx="2532240" cy="1513080"/>
          </a:xfrm>
        </p:grpSpPr>
        <p:sp>
          <p:nvSpPr>
            <p:cNvPr id="165" name="Forma libre 5"/>
            <p:cNvSpPr/>
            <p:nvPr/>
          </p:nvSpPr>
          <p:spPr>
            <a:xfrm>
              <a:off x="182520" y="2786040"/>
              <a:ext cx="2532240" cy="1513080"/>
            </a:xfrm>
            <a:prstGeom prst="pie">
              <a:avLst/>
            </a:prstGeom>
            <a:solidFill>
              <a:srgbClr val="e6b9b8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Cuadro de texto 6"/>
            <p:cNvSpPr/>
            <p:nvPr/>
          </p:nvSpPr>
          <p:spPr>
            <a:xfrm>
              <a:off x="598320" y="3178440"/>
              <a:ext cx="129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HIGAD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7" name="Elipse 9"/>
          <p:cNvSpPr/>
          <p:nvPr/>
        </p:nvSpPr>
        <p:spPr>
          <a:xfrm>
            <a:off x="2627280" y="1989000"/>
            <a:ext cx="863640" cy="863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VLD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&gt;T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Elipse 10"/>
          <p:cNvSpPr/>
          <p:nvPr/>
        </p:nvSpPr>
        <p:spPr>
          <a:xfrm>
            <a:off x="4356000" y="3645000"/>
            <a:ext cx="1008000" cy="10080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D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Elipse 13"/>
          <p:cNvSpPr/>
          <p:nvPr/>
        </p:nvSpPr>
        <p:spPr>
          <a:xfrm>
            <a:off x="5867280" y="2708280"/>
            <a:ext cx="792360" cy="7920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&gt;T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orma libre 17"/>
          <p:cNvSpPr/>
          <p:nvPr/>
        </p:nvSpPr>
        <p:spPr>
          <a:xfrm rot="1209000">
            <a:off x="3768480" y="2217240"/>
            <a:ext cx="2087280" cy="432000"/>
          </a:xfrm>
          <a:prstGeom prst="pie">
            <a:avLst/>
          </a:prstGeom>
          <a:noFill/>
          <a:ln w="4140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uadro de texto 18"/>
          <p:cNvSpPr/>
          <p:nvPr/>
        </p:nvSpPr>
        <p:spPr>
          <a:xfrm>
            <a:off x="1690560" y="3571920"/>
            <a:ext cx="1095480" cy="53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70c0"/>
                </a:solidFill>
                <a:latin typeface="Times New Roman"/>
              </a:rPr>
              <a:t>    </a:t>
            </a:r>
            <a:r>
              <a:rPr b="1" i="1" lang="es-ES" sz="1800" spc="-1" strike="noStrike">
                <a:solidFill>
                  <a:srgbClr val="0070c0"/>
                </a:solidFill>
                <a:latin typeface="Times New Roman"/>
              </a:rPr>
              <a:t>Lipa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i="1" lang="es-ES" sz="1800" spc="-1" strike="noStrike">
                <a:solidFill>
                  <a:srgbClr val="0070c0"/>
                </a:solidFill>
                <a:latin typeface="Times New Roman"/>
              </a:rPr>
              <a:t>Hepát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orma libre 16"/>
          <p:cNvSpPr/>
          <p:nvPr/>
        </p:nvSpPr>
        <p:spPr>
          <a:xfrm rot="3243600">
            <a:off x="2308320" y="3914640"/>
            <a:ext cx="1511280" cy="216000"/>
          </a:xfrm>
          <a:prstGeom prst="pie">
            <a:avLst/>
          </a:prstGeom>
          <a:noFill/>
          <a:ln w="4140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Autoforma 19"/>
          <p:cNvSpPr/>
          <p:nvPr/>
        </p:nvSpPr>
        <p:spPr>
          <a:xfrm>
            <a:off x="2700360" y="5734080"/>
            <a:ext cx="2305080" cy="863640"/>
          </a:xfrm>
          <a:prstGeom prst="flowChartPunchedTap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TEJIDO PERIFERI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orma libre 20"/>
          <p:cNvSpPr/>
          <p:nvPr/>
        </p:nvSpPr>
        <p:spPr>
          <a:xfrm rot="19074000">
            <a:off x="1633320" y="2190600"/>
            <a:ext cx="1069920" cy="378000"/>
          </a:xfrm>
          <a:prstGeom prst="pie">
            <a:avLst/>
          </a:prstGeom>
          <a:noFill/>
          <a:ln w="4140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orma libre 22"/>
          <p:cNvSpPr/>
          <p:nvPr/>
        </p:nvSpPr>
        <p:spPr>
          <a:xfrm rot="16200000">
            <a:off x="4210560" y="2924280"/>
            <a:ext cx="1081080" cy="216000"/>
          </a:xfrm>
          <a:prstGeom prst="pie">
            <a:avLst/>
          </a:prstGeom>
          <a:noFill/>
          <a:ln w="4140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Cuadro de texto 23"/>
          <p:cNvSpPr/>
          <p:nvPr/>
        </p:nvSpPr>
        <p:spPr>
          <a:xfrm>
            <a:off x="3708360" y="2924280"/>
            <a:ext cx="1295280" cy="368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Apo CII, 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Grupo 51"/>
          <p:cNvGrpSpPr/>
          <p:nvPr/>
        </p:nvGrpSpPr>
        <p:grpSpPr>
          <a:xfrm>
            <a:off x="6644160" y="2643120"/>
            <a:ext cx="2080800" cy="3250800"/>
            <a:chOff x="6644160" y="2643120"/>
            <a:chExt cx="2080800" cy="3250800"/>
          </a:xfrm>
        </p:grpSpPr>
        <p:sp>
          <p:nvSpPr>
            <p:cNvPr id="178" name="Cuadro de texto 49"/>
            <p:cNvSpPr/>
            <p:nvPr/>
          </p:nvSpPr>
          <p:spPr>
            <a:xfrm rot="19386000">
              <a:off x="6651000" y="3052080"/>
              <a:ext cx="1542960" cy="53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b050"/>
                  </a:solidFill>
                  <a:latin typeface="Times New Roman"/>
                </a:rPr>
                <a:t>Lipoproteí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b050"/>
                  </a:solidFill>
                  <a:latin typeface="Times New Roman"/>
                </a:rPr>
                <a:t>Lipasa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9" name="Grupo 45"/>
            <p:cNvGrpSpPr/>
            <p:nvPr/>
          </p:nvGrpSpPr>
          <p:grpSpPr>
            <a:xfrm>
              <a:off x="6997680" y="3595680"/>
              <a:ext cx="1727280" cy="1511280"/>
              <a:chOff x="6997680" y="3595680"/>
              <a:chExt cx="1727280" cy="1511280"/>
            </a:xfrm>
          </p:grpSpPr>
          <p:grpSp>
            <p:nvGrpSpPr>
              <p:cNvPr id="180" name="Grupo 42"/>
              <p:cNvGrpSpPr/>
              <p:nvPr/>
            </p:nvGrpSpPr>
            <p:grpSpPr>
              <a:xfrm>
                <a:off x="6997680" y="3595680"/>
                <a:ext cx="1727280" cy="1511280"/>
                <a:chOff x="6997680" y="3595680"/>
                <a:chExt cx="1727280" cy="1511280"/>
              </a:xfrm>
            </p:grpSpPr>
            <p:grpSp>
              <p:nvGrpSpPr>
                <p:cNvPr id="181" name="Grupo 41"/>
                <p:cNvGrpSpPr/>
                <p:nvPr/>
              </p:nvGrpSpPr>
              <p:grpSpPr>
                <a:xfrm>
                  <a:off x="6997680" y="3595680"/>
                  <a:ext cx="1727280" cy="1511280"/>
                  <a:chOff x="6997680" y="3595680"/>
                  <a:chExt cx="1727280" cy="1511280"/>
                </a:xfrm>
              </p:grpSpPr>
              <p:sp>
                <p:nvSpPr>
                  <p:cNvPr id="182" name="Elipse 27"/>
                  <p:cNvSpPr/>
                  <p:nvPr/>
                </p:nvSpPr>
                <p:spPr>
                  <a:xfrm>
                    <a:off x="7213680" y="374004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" name="Elipse 29"/>
                  <p:cNvSpPr/>
                  <p:nvPr/>
                </p:nvSpPr>
                <p:spPr>
                  <a:xfrm>
                    <a:off x="7645320" y="417168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" name="Elipse 31"/>
                  <p:cNvSpPr/>
                  <p:nvPr/>
                </p:nvSpPr>
                <p:spPr>
                  <a:xfrm>
                    <a:off x="7284960" y="438768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5" name="Elipse 32"/>
                  <p:cNvSpPr/>
                  <p:nvPr/>
                </p:nvSpPr>
                <p:spPr>
                  <a:xfrm>
                    <a:off x="6997680" y="410040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6" name="Elipse 33"/>
                  <p:cNvSpPr/>
                  <p:nvPr/>
                </p:nvSpPr>
                <p:spPr>
                  <a:xfrm>
                    <a:off x="7932960" y="3956040"/>
                    <a:ext cx="50292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7" name="Elipse 34"/>
                  <p:cNvSpPr/>
                  <p:nvPr/>
                </p:nvSpPr>
                <p:spPr>
                  <a:xfrm>
                    <a:off x="7645320" y="366696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8" name="Elipse 35"/>
                  <p:cNvSpPr/>
                  <p:nvPr/>
                </p:nvSpPr>
                <p:spPr>
                  <a:xfrm>
                    <a:off x="8077320" y="460368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9" name="Elipse 36"/>
                  <p:cNvSpPr/>
                  <p:nvPr/>
                </p:nvSpPr>
                <p:spPr>
                  <a:xfrm>
                    <a:off x="8005680" y="359568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0" name="Elipse 37"/>
                  <p:cNvSpPr/>
                  <p:nvPr/>
                </p:nvSpPr>
                <p:spPr>
                  <a:xfrm>
                    <a:off x="7645320" y="460368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1" name="Elipse 39"/>
                  <p:cNvSpPr/>
                  <p:nvPr/>
                </p:nvSpPr>
                <p:spPr>
                  <a:xfrm>
                    <a:off x="6997680" y="4459320"/>
                    <a:ext cx="503280" cy="5029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2" name="Elipse 40"/>
                  <p:cNvSpPr/>
                  <p:nvPr/>
                </p:nvSpPr>
                <p:spPr>
                  <a:xfrm>
                    <a:off x="8221680" y="402732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93" name="Elipse 28"/>
                <p:cNvSpPr/>
                <p:nvPr/>
              </p:nvSpPr>
              <p:spPr>
                <a:xfrm>
                  <a:off x="7429680" y="3956040"/>
                  <a:ext cx="503280" cy="5032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94" name="Elipse 38"/>
              <p:cNvSpPr/>
              <p:nvPr/>
            </p:nvSpPr>
            <p:spPr>
              <a:xfrm>
                <a:off x="8078760" y="4314960"/>
                <a:ext cx="503280" cy="502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5" name="Cuadro de texto 43"/>
            <p:cNvSpPr/>
            <p:nvPr/>
          </p:nvSpPr>
          <p:spPr>
            <a:xfrm>
              <a:off x="7286760" y="5251320"/>
              <a:ext cx="12254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TEJIDO ADIPOS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Elipse 46"/>
            <p:cNvSpPr/>
            <p:nvPr/>
          </p:nvSpPr>
          <p:spPr>
            <a:xfrm>
              <a:off x="7862760" y="3882960"/>
              <a:ext cx="648000" cy="5032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T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Elipse 47"/>
            <p:cNvSpPr/>
            <p:nvPr/>
          </p:nvSpPr>
          <p:spPr>
            <a:xfrm>
              <a:off x="6997680" y="4314960"/>
              <a:ext cx="647640" cy="50292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A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Línea 50"/>
            <p:cNvSpPr/>
            <p:nvPr/>
          </p:nvSpPr>
          <p:spPr>
            <a:xfrm>
              <a:off x="6653160" y="3378240"/>
              <a:ext cx="561960" cy="97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9" name="Línea 48"/>
          <p:cNvSpPr/>
          <p:nvPr/>
        </p:nvSpPr>
        <p:spPr>
          <a:xfrm flipV="1">
            <a:off x="7637400" y="4294080"/>
            <a:ext cx="358920" cy="216000"/>
          </a:xfrm>
          <a:prstGeom prst="line">
            <a:avLst/>
          </a:prstGeom>
          <a:ln w="4140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Autoforma 54"/>
          <p:cNvSpPr/>
          <p:nvPr/>
        </p:nvSpPr>
        <p:spPr>
          <a:xfrm rot="10800000">
            <a:off x="4716000" y="5013000"/>
            <a:ext cx="1584360" cy="431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orma libre 59"/>
          <p:cNvSpPr/>
          <p:nvPr/>
        </p:nvSpPr>
        <p:spPr>
          <a:xfrm rot="11475000">
            <a:off x="5292360" y="4508280"/>
            <a:ext cx="1069920" cy="377640"/>
          </a:xfrm>
          <a:prstGeom prst="pie">
            <a:avLst/>
          </a:prstGeom>
          <a:noFill/>
          <a:ln w="41400">
            <a:solidFill>
              <a:srgbClr val="1f497d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Elipse 60"/>
          <p:cNvSpPr/>
          <p:nvPr/>
        </p:nvSpPr>
        <p:spPr>
          <a:xfrm>
            <a:off x="5508720" y="4365720"/>
            <a:ext cx="649080" cy="5047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po 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Elipse 61"/>
          <p:cNvSpPr/>
          <p:nvPr/>
        </p:nvSpPr>
        <p:spPr>
          <a:xfrm>
            <a:off x="2627280" y="1484280"/>
            <a:ext cx="720720" cy="64944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p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B-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Elipse 62"/>
          <p:cNvSpPr/>
          <p:nvPr/>
        </p:nvSpPr>
        <p:spPr>
          <a:xfrm>
            <a:off x="5867280" y="2205000"/>
            <a:ext cx="505080" cy="5032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Ap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B-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Elipse 63"/>
          <p:cNvSpPr/>
          <p:nvPr/>
        </p:nvSpPr>
        <p:spPr>
          <a:xfrm>
            <a:off x="6659640" y="2637000"/>
            <a:ext cx="504720" cy="5029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Ap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C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Elipse 64"/>
          <p:cNvSpPr/>
          <p:nvPr/>
        </p:nvSpPr>
        <p:spPr>
          <a:xfrm>
            <a:off x="5508720" y="3213000"/>
            <a:ext cx="504720" cy="5032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Ap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Elipse 65"/>
          <p:cNvSpPr/>
          <p:nvPr/>
        </p:nvSpPr>
        <p:spPr>
          <a:xfrm>
            <a:off x="2987640" y="4869000"/>
            <a:ext cx="504720" cy="5032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Ap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B-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Elipse 66"/>
          <p:cNvSpPr/>
          <p:nvPr/>
        </p:nvSpPr>
        <p:spPr>
          <a:xfrm>
            <a:off x="3492360" y="4076640"/>
            <a:ext cx="505080" cy="5032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Ap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Línea 74"/>
          <p:cNvSpPr/>
          <p:nvPr/>
        </p:nvSpPr>
        <p:spPr>
          <a:xfrm>
            <a:off x="3995640" y="4221000"/>
            <a:ext cx="289080" cy="0"/>
          </a:xfrm>
          <a:prstGeom prst="line">
            <a:avLst/>
          </a:prstGeom>
          <a:ln w="349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Grupo 77"/>
          <p:cNvGrpSpPr/>
          <p:nvPr/>
        </p:nvGrpSpPr>
        <p:grpSpPr>
          <a:xfrm>
            <a:off x="591120" y="3681360"/>
            <a:ext cx="2152800" cy="2454480"/>
            <a:chOff x="591120" y="3681360"/>
            <a:chExt cx="2152800" cy="2454480"/>
          </a:xfrm>
        </p:grpSpPr>
        <p:grpSp>
          <p:nvGrpSpPr>
            <p:cNvPr id="211" name="Grupo 58"/>
            <p:cNvGrpSpPr/>
            <p:nvPr/>
          </p:nvGrpSpPr>
          <p:grpSpPr>
            <a:xfrm>
              <a:off x="591120" y="3681360"/>
              <a:ext cx="2152800" cy="2454480"/>
              <a:chOff x="591120" y="3681360"/>
              <a:chExt cx="2152800" cy="2454480"/>
            </a:xfrm>
          </p:grpSpPr>
          <p:grpSp>
            <p:nvGrpSpPr>
              <p:cNvPr id="212" name="Grupo 57"/>
              <p:cNvGrpSpPr/>
              <p:nvPr/>
            </p:nvGrpSpPr>
            <p:grpSpPr>
              <a:xfrm>
                <a:off x="591120" y="4144320"/>
                <a:ext cx="2152800" cy="1991520"/>
                <a:chOff x="591120" y="4144320"/>
                <a:chExt cx="2152800" cy="1991520"/>
              </a:xfrm>
            </p:grpSpPr>
            <p:sp>
              <p:nvSpPr>
                <p:cNvPr id="213" name="Autoforma 56"/>
                <p:cNvSpPr/>
                <p:nvPr/>
              </p:nvSpPr>
              <p:spPr>
                <a:xfrm rot="2509200">
                  <a:off x="418680" y="4920840"/>
                  <a:ext cx="2496960" cy="438120"/>
                </a:xfrm>
                <a:prstGeom prst="pi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4" name="Elipse 12"/>
                <p:cNvSpPr/>
                <p:nvPr/>
              </p:nvSpPr>
              <p:spPr>
                <a:xfrm>
                  <a:off x="1492200" y="4786200"/>
                  <a:ext cx="507960" cy="5000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LDL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C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15" name="Forma libre 21"/>
              <p:cNvSpPr/>
              <p:nvPr/>
            </p:nvSpPr>
            <p:spPr>
              <a:xfrm rot="16200000">
                <a:off x="1126800" y="4041720"/>
                <a:ext cx="936720" cy="216000"/>
              </a:xfrm>
              <a:prstGeom prst="pie">
                <a:avLst/>
              </a:prstGeom>
              <a:noFill/>
              <a:ln w="4140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6" name="Elipse 67"/>
            <p:cNvSpPr/>
            <p:nvPr/>
          </p:nvSpPr>
          <p:spPr>
            <a:xfrm>
              <a:off x="1979640" y="4762440"/>
              <a:ext cx="504720" cy="50328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Calibri"/>
                </a:rPr>
                <a:t>Apo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Calibri"/>
                </a:rPr>
                <a:t>B-100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Línea 50"/>
          <p:cNvSpPr/>
          <p:nvPr/>
        </p:nvSpPr>
        <p:spPr>
          <a:xfrm flipH="1">
            <a:off x="6643440" y="3929040"/>
            <a:ext cx="285480" cy="357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66 CuadroTexto"/>
          <p:cNvSpPr/>
          <p:nvPr/>
        </p:nvSpPr>
        <p:spPr>
          <a:xfrm>
            <a:off x="6147000" y="414324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Glicero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58 Arco"/>
          <p:cNvSpPr/>
          <p:nvPr/>
        </p:nvSpPr>
        <p:spPr>
          <a:xfrm flipH="1" flipV="1" rot="9127200">
            <a:off x="7007760" y="2707920"/>
            <a:ext cx="579240" cy="626760"/>
          </a:xfrm>
          <a:prstGeom prst="pie">
            <a:avLst/>
          </a:prstGeom>
          <a:noFill/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Arial Rounded MT Bold"/>
              </a:rPr>
              <a:t>Captación del Colesterol de las LDL por endocitosis  facilitada por recepto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Imagen 5" descr=""/>
          <p:cNvPicPr/>
          <p:nvPr/>
        </p:nvPicPr>
        <p:blipFill>
          <a:blip r:embed="rId1"/>
          <a:stretch/>
        </p:blipFill>
        <p:spPr>
          <a:xfrm>
            <a:off x="2525760" y="1484280"/>
            <a:ext cx="5832360" cy="5373720"/>
          </a:xfrm>
          <a:prstGeom prst="rect">
            <a:avLst/>
          </a:prstGeom>
          <a:ln w="0">
            <a:noFill/>
          </a:ln>
        </p:spPr>
      </p:pic>
      <p:sp>
        <p:nvSpPr>
          <p:cNvPr id="222" name="Rectángulo 3"/>
          <p:cNvSpPr/>
          <p:nvPr/>
        </p:nvSpPr>
        <p:spPr>
          <a:xfrm>
            <a:off x="250920" y="1916280"/>
            <a:ext cx="1873080" cy="2881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 Rounded MT Bold"/>
              </a:rPr>
              <a:t>-  Receptores de LDL regulables y saturables por los niveles de colestero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 Rounded MT Bold"/>
              </a:rPr>
              <a:t>Enzimas que intervienen en el Metabolismo de los QM y las VLD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ángulo 6"/>
          <p:cNvSpPr/>
          <p:nvPr/>
        </p:nvSpPr>
        <p:spPr>
          <a:xfrm>
            <a:off x="250920" y="2060640"/>
            <a:ext cx="525600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LIPOPROTEIN LIPASA (LP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Elipse 7"/>
          <p:cNvSpPr/>
          <p:nvPr/>
        </p:nvSpPr>
        <p:spPr>
          <a:xfrm>
            <a:off x="6858000" y="1857240"/>
            <a:ext cx="1785960" cy="1500480"/>
          </a:xfrm>
          <a:prstGeom prst="ellipse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ared 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é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ndoteli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ángulo 10"/>
          <p:cNvSpPr/>
          <p:nvPr/>
        </p:nvSpPr>
        <p:spPr>
          <a:xfrm>
            <a:off x="324000" y="3645000"/>
            <a:ext cx="5256000" cy="11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LIPASA HEPATICA (L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Elipse 11"/>
          <p:cNvSpPr/>
          <p:nvPr/>
        </p:nvSpPr>
        <p:spPr>
          <a:xfrm>
            <a:off x="5867280" y="2276640"/>
            <a:ext cx="792360" cy="7920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C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Cuadro de texto 13"/>
          <p:cNvSpPr/>
          <p:nvPr/>
        </p:nvSpPr>
        <p:spPr>
          <a:xfrm>
            <a:off x="6929280" y="3714840"/>
            <a:ext cx="1695600" cy="82548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Sinusoides hepát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ángulo 10"/>
          <p:cNvSpPr/>
          <p:nvPr/>
        </p:nvSpPr>
        <p:spPr>
          <a:xfrm>
            <a:off x="363600" y="5072040"/>
            <a:ext cx="5256000" cy="1143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LIPASA HORMONO SENSIBLE (LH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Cuadro de texto 13"/>
          <p:cNvSpPr/>
          <p:nvPr/>
        </p:nvSpPr>
        <p:spPr>
          <a:xfrm>
            <a:off x="6916680" y="5143680"/>
            <a:ext cx="179856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Tejido adipo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Elipse 11"/>
          <p:cNvSpPr/>
          <p:nvPr/>
        </p:nvSpPr>
        <p:spPr>
          <a:xfrm>
            <a:off x="5715000" y="5286240"/>
            <a:ext cx="1214280" cy="7146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Hormon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3 Grupo"/>
          <p:cNvGrpSpPr/>
          <p:nvPr/>
        </p:nvGrpSpPr>
        <p:grpSpPr>
          <a:xfrm>
            <a:off x="380880" y="878040"/>
            <a:ext cx="8382240" cy="5101920"/>
            <a:chOff x="380880" y="878040"/>
            <a:chExt cx="8382240" cy="5101920"/>
          </a:xfrm>
        </p:grpSpPr>
        <p:pic>
          <p:nvPicPr>
            <p:cNvPr id="233" name="Imagen 3" descr=""/>
            <p:cNvPicPr/>
            <p:nvPr/>
          </p:nvPicPr>
          <p:blipFill>
            <a:blip r:embed="rId1"/>
            <a:stretch/>
          </p:blipFill>
          <p:spPr>
            <a:xfrm>
              <a:off x="380880" y="878040"/>
              <a:ext cx="838224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2 CuadroTexto"/>
            <p:cNvSpPr/>
            <p:nvPr/>
          </p:nvSpPr>
          <p:spPr>
            <a:xfrm>
              <a:off x="5786640" y="4286160"/>
              <a:ext cx="221472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DL y algunas HD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70c0"/>
                </a:solidFill>
                <a:latin typeface="Arial Rounded MT Bold"/>
              </a:rPr>
              <a:t>Metabolismo de HD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6" name="Grupo 11"/>
          <p:cNvGrpSpPr/>
          <p:nvPr/>
        </p:nvGrpSpPr>
        <p:grpSpPr>
          <a:xfrm>
            <a:off x="-41400" y="2653200"/>
            <a:ext cx="2868480" cy="2201040"/>
            <a:chOff x="-41400" y="2653200"/>
            <a:chExt cx="2868480" cy="2201040"/>
          </a:xfrm>
        </p:grpSpPr>
        <p:sp>
          <p:nvSpPr>
            <p:cNvPr id="237" name="Forma libre 12"/>
            <p:cNvSpPr/>
            <p:nvPr/>
          </p:nvSpPr>
          <p:spPr>
            <a:xfrm rot="20554800">
              <a:off x="126720" y="2997000"/>
              <a:ext cx="2531880" cy="1512720"/>
            </a:xfrm>
            <a:prstGeom prst="pie">
              <a:avLst/>
            </a:prstGeom>
            <a:solidFill>
              <a:srgbClr val="ffffcc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Cuadro de texto 13"/>
            <p:cNvSpPr/>
            <p:nvPr/>
          </p:nvSpPr>
          <p:spPr>
            <a:xfrm>
              <a:off x="630000" y="3500640"/>
              <a:ext cx="129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HIGAD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9" name="44 Grupo"/>
          <p:cNvGrpSpPr/>
          <p:nvPr/>
        </p:nvGrpSpPr>
        <p:grpSpPr>
          <a:xfrm>
            <a:off x="854640" y="3715200"/>
            <a:ext cx="3012480" cy="2944800"/>
            <a:chOff x="854640" y="3715200"/>
            <a:chExt cx="3012480" cy="2944800"/>
          </a:xfrm>
        </p:grpSpPr>
        <p:sp>
          <p:nvSpPr>
            <p:cNvPr id="240" name="Forma libre 22"/>
            <p:cNvSpPr/>
            <p:nvPr/>
          </p:nvSpPr>
          <p:spPr>
            <a:xfrm rot="1707000">
              <a:off x="1672920" y="3929040"/>
              <a:ext cx="993600" cy="377640"/>
            </a:xfrm>
            <a:prstGeom prst="pie">
              <a:avLst/>
            </a:prstGeom>
            <a:noFill/>
            <a:ln w="4140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Autoforma 69"/>
            <p:cNvSpPr/>
            <p:nvPr/>
          </p:nvSpPr>
          <p:spPr>
            <a:xfrm>
              <a:off x="2776680" y="4138560"/>
              <a:ext cx="1081080" cy="718920"/>
            </a:xfrm>
            <a:prstGeom prst="can">
              <a:avLst>
                <a:gd name="adj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A,C,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Autoforma 70"/>
            <p:cNvSpPr/>
            <p:nvPr/>
          </p:nvSpPr>
          <p:spPr>
            <a:xfrm rot="18666000">
              <a:off x="1425240" y="4915800"/>
              <a:ext cx="647640" cy="1809720"/>
            </a:xfrm>
            <a:prstGeom prst="can">
              <a:avLst>
                <a:gd name="adj" fmla="val 832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Intestin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orma libre 72"/>
            <p:cNvSpPr/>
            <p:nvPr/>
          </p:nvSpPr>
          <p:spPr>
            <a:xfrm rot="19074000">
              <a:off x="1746000" y="4868280"/>
              <a:ext cx="1069920" cy="377640"/>
            </a:xfrm>
            <a:prstGeom prst="pie">
              <a:avLst/>
            </a:prstGeom>
            <a:noFill/>
            <a:ln w="4140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Cuadro de texto 73"/>
            <p:cNvSpPr/>
            <p:nvPr/>
          </p:nvSpPr>
          <p:spPr>
            <a:xfrm>
              <a:off x="2714760" y="4776840"/>
              <a:ext cx="1152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HDL discoid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" name="34 Grupo"/>
          <p:cNvGrpSpPr/>
          <p:nvPr/>
        </p:nvGrpSpPr>
        <p:grpSpPr>
          <a:xfrm>
            <a:off x="3286080" y="1285920"/>
            <a:ext cx="1360440" cy="1692720"/>
            <a:chOff x="3286080" y="1285920"/>
            <a:chExt cx="1360440" cy="1692720"/>
          </a:xfrm>
        </p:grpSpPr>
        <p:sp>
          <p:nvSpPr>
            <p:cNvPr id="246" name="31 CuadroTexto"/>
            <p:cNvSpPr/>
            <p:nvPr/>
          </p:nvSpPr>
          <p:spPr>
            <a:xfrm flipH="1">
              <a:off x="3673800" y="2610360"/>
              <a:ext cx="798120" cy="3682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I-IV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32 CuadroTexto"/>
            <p:cNvSpPr/>
            <p:nvPr/>
          </p:nvSpPr>
          <p:spPr>
            <a:xfrm>
              <a:off x="3286080" y="1441440"/>
              <a:ext cx="547920" cy="3682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I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33 CuadroTexto"/>
            <p:cNvSpPr/>
            <p:nvPr/>
          </p:nvSpPr>
          <p:spPr>
            <a:xfrm>
              <a:off x="3913920" y="1285920"/>
              <a:ext cx="457560" cy="3682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Elipse 75"/>
            <p:cNvSpPr/>
            <p:nvPr/>
          </p:nvSpPr>
          <p:spPr>
            <a:xfrm>
              <a:off x="3520080" y="1602000"/>
              <a:ext cx="1126440" cy="10994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HDL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0" name="42 Grupo"/>
          <p:cNvGrpSpPr/>
          <p:nvPr/>
        </p:nvGrpSpPr>
        <p:grpSpPr>
          <a:xfrm>
            <a:off x="4483800" y="1029240"/>
            <a:ext cx="2884320" cy="2053800"/>
            <a:chOff x="4483800" y="1029240"/>
            <a:chExt cx="2884320" cy="2053800"/>
          </a:xfrm>
        </p:grpSpPr>
        <p:sp>
          <p:nvSpPr>
            <p:cNvPr id="251" name="Cuadro de texto 67"/>
            <p:cNvSpPr/>
            <p:nvPr/>
          </p:nvSpPr>
          <p:spPr>
            <a:xfrm rot="21172800">
              <a:off x="4893480" y="1832760"/>
              <a:ext cx="936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CETP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Elipse 17"/>
            <p:cNvSpPr/>
            <p:nvPr/>
          </p:nvSpPr>
          <p:spPr>
            <a:xfrm rot="340800">
              <a:off x="6017400" y="1292040"/>
              <a:ext cx="1296720" cy="115236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VLD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IDL QM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Autoforma 76"/>
            <p:cNvSpPr/>
            <p:nvPr/>
          </p:nvSpPr>
          <p:spPr>
            <a:xfrm rot="4872600">
              <a:off x="5090040" y="1734840"/>
              <a:ext cx="606240" cy="1747080"/>
            </a:xfrm>
            <a:custGeom>
              <a:avLst/>
              <a:gdLst>
                <a:gd name="textAreaLeft" fmla="*/ 81000 w 606240"/>
                <a:gd name="textAreaRight" fmla="*/ 525240 w 606240"/>
                <a:gd name="textAreaTop" fmla="*/ 367920 h 1747080"/>
                <a:gd name="textAreaBottom" fmla="*/ 1287360 h 174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099" stAng="-5400000" swAng="5400000"/>
                  <a:lnTo>
                    <a:pt x="21600" y="11368"/>
                  </a:lnTo>
                  <a:arcTo wR="21600" hR="9099" stAng="0" swAng="2999511"/>
                  <a:lnTo>
                    <a:pt x="7200" y="21080"/>
                  </a:lnTo>
                  <a:lnTo>
                    <a:pt x="0" y="19332"/>
                  </a:lnTo>
                  <a:lnTo>
                    <a:pt x="7200" y="16543"/>
                  </a:lnTo>
                  <a:lnTo>
                    <a:pt x="7200" y="17677"/>
                  </a:lnTo>
                  <a:arcTo wR="21600" hR="9099" stAng="2999511" swAng="-2817699"/>
                  <a:lnTo>
                    <a:pt x="21431" y="10233"/>
                  </a:lnTo>
                  <a:arcTo wR="21600" hR="9099" stAng="-181812" swAng="-5218188"/>
                  <a:close/>
                </a:path>
                <a:path fill="darkenLess" w="21600" h="21600">
                  <a:moveTo>
                    <a:pt x="0" y="0"/>
                  </a:moveTo>
                  <a:arcTo wR="21600" hR="9099" stAng="-5400000" swAng="5400000"/>
                  <a:lnTo>
                    <a:pt x="21600" y="11368"/>
                  </a:lnTo>
                  <a:arcTo wR="21600" hR="9099" stAng="0" swAng="-181812"/>
                  <a:lnTo>
                    <a:pt x="21431" y="10233"/>
                  </a:lnTo>
                  <a:arcTo wR="21600" hR="9099" stAng="-181812" swAng="-5218188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Cuadro de texto 77"/>
            <p:cNvSpPr/>
            <p:nvPr/>
          </p:nvSpPr>
          <p:spPr>
            <a:xfrm rot="340800">
              <a:off x="5280480" y="2687040"/>
              <a:ext cx="576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3300"/>
                  </a:solidFill>
                  <a:latin typeface="Times New Roman"/>
                </a:rPr>
                <a:t>T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Autoforma 79"/>
            <p:cNvSpPr/>
            <p:nvPr/>
          </p:nvSpPr>
          <p:spPr>
            <a:xfrm rot="21150000">
              <a:off x="4549320" y="1171440"/>
              <a:ext cx="1611720" cy="504720"/>
            </a:xfrm>
            <a:custGeom>
              <a:avLst/>
              <a:gdLst>
                <a:gd name="textAreaLeft" fmla="*/ 316440 w 1611720"/>
                <a:gd name="textAreaRight" fmla="*/ 1180080 w 1611720"/>
                <a:gd name="textAreaTop" fmla="*/ 67320 h 504720"/>
                <a:gd name="textAreaBottom" fmla="*/ 43740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486" hR="21600" stAng="10800000" swAng="5400000"/>
                  <a:lnTo>
                    <a:pt x="11572" y="0"/>
                  </a:lnTo>
                  <a:arcTo wR="8486" hR="21600" stAng="-5400000" swAng="2880912"/>
                  <a:lnTo>
                    <a:pt x="21115" y="14400"/>
                  </a:lnTo>
                  <a:lnTo>
                    <a:pt x="18515" y="21600"/>
                  </a:lnTo>
                  <a:lnTo>
                    <a:pt x="14945" y="14400"/>
                  </a:lnTo>
                  <a:lnTo>
                    <a:pt x="16487" y="14400"/>
                  </a:lnTo>
                  <a:arcTo wR="8486" hR="21600" stAng="-2519088" swAng="-2631611"/>
                  <a:lnTo>
                    <a:pt x="10029" y="360"/>
                  </a:lnTo>
                  <a:arcTo wR="8486" hR="21600" stAng="-5649301" swAng="-5150699"/>
                  <a:close/>
                </a:path>
                <a:path fill="darkenLess" w="21600" h="21600">
                  <a:moveTo>
                    <a:pt x="0" y="21600"/>
                  </a:moveTo>
                  <a:arcTo wR="8486" hR="21600" stAng="10800000" swAng="5400000"/>
                  <a:lnTo>
                    <a:pt x="8486" y="0"/>
                  </a:lnTo>
                  <a:arcTo wR="8486" hR="21600" stAng="-5400000" swAng="249301"/>
                  <a:lnTo>
                    <a:pt x="10029" y="360"/>
                  </a:lnTo>
                  <a:arcTo wR="8486" hR="21600" stAng="-5649301" swAng="-5150699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Cuadro de texto 80"/>
            <p:cNvSpPr/>
            <p:nvPr/>
          </p:nvSpPr>
          <p:spPr>
            <a:xfrm rot="340800">
              <a:off x="4863960" y="1056600"/>
              <a:ext cx="576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3300"/>
                  </a:solidFill>
                  <a:latin typeface="Times New Roman"/>
                </a:rPr>
                <a:t>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" name="43 Grupo"/>
          <p:cNvGrpSpPr/>
          <p:nvPr/>
        </p:nvGrpSpPr>
        <p:grpSpPr>
          <a:xfrm>
            <a:off x="2808360" y="2711880"/>
            <a:ext cx="1192320" cy="1360080"/>
            <a:chOff x="2808360" y="2711880"/>
            <a:chExt cx="1192320" cy="1360080"/>
          </a:xfrm>
        </p:grpSpPr>
        <p:sp>
          <p:nvSpPr>
            <p:cNvPr id="258" name="42 CuadroTexto"/>
            <p:cNvSpPr/>
            <p:nvPr/>
          </p:nvSpPr>
          <p:spPr>
            <a:xfrm flipH="1" rot="17936400">
              <a:off x="2920680" y="2919960"/>
              <a:ext cx="962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LCAT (+AI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Línea 74"/>
            <p:cNvSpPr/>
            <p:nvPr/>
          </p:nvSpPr>
          <p:spPr>
            <a:xfrm flipV="1">
              <a:off x="3566880" y="2948040"/>
              <a:ext cx="433800" cy="11239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0" name="Línea 83"/>
          <p:cNvSpPr/>
          <p:nvPr/>
        </p:nvSpPr>
        <p:spPr>
          <a:xfrm flipH="1" flipV="1">
            <a:off x="4285800" y="3857760"/>
            <a:ext cx="714600" cy="785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1" name="41 Grupo"/>
          <p:cNvGrpSpPr/>
          <p:nvPr/>
        </p:nvGrpSpPr>
        <p:grpSpPr>
          <a:xfrm>
            <a:off x="3857760" y="4508640"/>
            <a:ext cx="4314600" cy="1635120"/>
            <a:chOff x="3857760" y="4508640"/>
            <a:chExt cx="4314600" cy="1635120"/>
          </a:xfrm>
        </p:grpSpPr>
        <p:sp>
          <p:nvSpPr>
            <p:cNvPr id="262" name="Autoforma 21"/>
            <p:cNvSpPr/>
            <p:nvPr/>
          </p:nvSpPr>
          <p:spPr>
            <a:xfrm>
              <a:off x="4930920" y="5207040"/>
              <a:ext cx="3241440" cy="936720"/>
            </a:xfrm>
            <a:prstGeom prst="flowChartPunchedTap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TEJIDO EXTRAHEPATIC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Elipse 71"/>
            <p:cNvSpPr/>
            <p:nvPr/>
          </p:nvSpPr>
          <p:spPr>
            <a:xfrm>
              <a:off x="4714920" y="4630680"/>
              <a:ext cx="934920" cy="863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Co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lib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Línea 87"/>
            <p:cNvSpPr/>
            <p:nvPr/>
          </p:nvSpPr>
          <p:spPr>
            <a:xfrm flipH="1" flipV="1">
              <a:off x="3857760" y="4508640"/>
              <a:ext cx="861840" cy="6350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5" name="43 Grupo"/>
          <p:cNvGrpSpPr/>
          <p:nvPr/>
        </p:nvGrpSpPr>
        <p:grpSpPr>
          <a:xfrm>
            <a:off x="2358360" y="2257200"/>
            <a:ext cx="2060640" cy="2242440"/>
            <a:chOff x="2358360" y="2257200"/>
            <a:chExt cx="2060640" cy="2242440"/>
          </a:xfrm>
        </p:grpSpPr>
        <p:sp>
          <p:nvSpPr>
            <p:cNvPr id="266" name="Cuadro de texto 19"/>
            <p:cNvSpPr/>
            <p:nvPr/>
          </p:nvSpPr>
          <p:spPr>
            <a:xfrm rot="19665600">
              <a:off x="2399040" y="2647440"/>
              <a:ext cx="649080" cy="34056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Times New Roman"/>
                </a:rPr>
                <a:t>L H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Autoforma 81"/>
            <p:cNvSpPr/>
            <p:nvPr/>
          </p:nvSpPr>
          <p:spPr>
            <a:xfrm flipH="1" flipV="1" rot="12491400">
              <a:off x="2943360" y="2307960"/>
              <a:ext cx="566640" cy="1393200"/>
            </a:xfrm>
            <a:custGeom>
              <a:avLst/>
              <a:gdLst>
                <a:gd name="textAreaLeft" fmla="*/ 75960 w 566640"/>
                <a:gd name="textAreaRight" fmla="*/ 490680 w 566640"/>
                <a:gd name="textAreaTop" fmla="*/ 254880 h 1393200"/>
                <a:gd name="textAreaBottom" fmla="*/ 1013760 h 139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903" stAng="-5400000" swAng="-5400000"/>
                  <a:lnTo>
                    <a:pt x="0" y="11767"/>
                  </a:lnTo>
                  <a:arcTo wR="21600" hR="7903" stAng="10800000" swAng="-2758785"/>
                  <a:lnTo>
                    <a:pt x="14400" y="21148"/>
                  </a:lnTo>
                  <a:lnTo>
                    <a:pt x="21600" y="17737"/>
                  </a:lnTo>
                  <a:lnTo>
                    <a:pt x="14400" y="13422"/>
                  </a:lnTo>
                  <a:lnTo>
                    <a:pt x="14400" y="15353"/>
                  </a:lnTo>
                  <a:arcTo wR="21600" hR="7903" stAng="8041215" swAng="2442570"/>
                  <a:lnTo>
                    <a:pt x="655" y="9835"/>
                  </a:lnTo>
                  <a:arcTo wR="21600" hR="7903" stAng="-10483785" swAng="5083785"/>
                  <a:close/>
                </a:path>
                <a:path fill="darkenLess" w="21600" h="21600">
                  <a:moveTo>
                    <a:pt x="21600" y="0"/>
                  </a:moveTo>
                  <a:arcTo wR="21600" hR="7903" stAng="-5400000" swAng="-5400000"/>
                  <a:lnTo>
                    <a:pt x="0" y="7903"/>
                  </a:lnTo>
                  <a:arcTo wR="21600" hR="7903" stAng="10800000" swAng="-316215"/>
                  <a:lnTo>
                    <a:pt x="655" y="9835"/>
                  </a:lnTo>
                  <a:arcTo wR="21600" hR="7903" stAng="-10483785" swAng="5083785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8" name="35 Grupo"/>
            <p:cNvGrpSpPr/>
            <p:nvPr/>
          </p:nvGrpSpPr>
          <p:grpSpPr>
            <a:xfrm>
              <a:off x="3286440" y="3190680"/>
              <a:ext cx="1132560" cy="1308960"/>
              <a:chOff x="3286440" y="3190680"/>
              <a:chExt cx="1132560" cy="1308960"/>
            </a:xfrm>
          </p:grpSpPr>
          <p:sp>
            <p:nvSpPr>
              <p:cNvPr id="269" name="36 CuadroTexto"/>
              <p:cNvSpPr/>
              <p:nvPr/>
            </p:nvSpPr>
            <p:spPr>
              <a:xfrm flipH="1" flipV="1" rot="10800000">
                <a:off x="3632760" y="4131000"/>
                <a:ext cx="785880" cy="36828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AI-IV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37 CuadroTexto"/>
              <p:cNvSpPr/>
              <p:nvPr/>
            </p:nvSpPr>
            <p:spPr>
              <a:xfrm>
                <a:off x="3286440" y="3327120"/>
                <a:ext cx="490320" cy="36828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CII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38 CuadroTexto"/>
              <p:cNvSpPr/>
              <p:nvPr/>
            </p:nvSpPr>
            <p:spPr>
              <a:xfrm>
                <a:off x="3848400" y="3190680"/>
                <a:ext cx="409320" cy="36828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Elipse 75"/>
              <p:cNvSpPr/>
              <p:nvPr/>
            </p:nvSpPr>
            <p:spPr>
              <a:xfrm>
                <a:off x="3495600" y="3466800"/>
                <a:ext cx="709920" cy="622440"/>
              </a:xfrm>
              <a:prstGeom prst="ellipse">
                <a:avLst/>
              </a:prstGeom>
              <a:solidFill>
                <a:srgbClr val="d7e4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HDL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Calibri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73" name="Línea 83"/>
          <p:cNvSpPr/>
          <p:nvPr/>
        </p:nvSpPr>
        <p:spPr>
          <a:xfrm flipH="1" flipV="1">
            <a:off x="4214520" y="2928960"/>
            <a:ext cx="785880" cy="1714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45 Flecha izquierda"/>
          <p:cNvSpPr/>
          <p:nvPr/>
        </p:nvSpPr>
        <p:spPr>
          <a:xfrm>
            <a:off x="1643040" y="3643200"/>
            <a:ext cx="1785960" cy="357480"/>
          </a:xfrm>
          <a:prstGeom prst="leftArrow">
            <a:avLst>
              <a:gd name="adj1" fmla="val 50000"/>
              <a:gd name="adj2" fmla="val 4996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Rounded MT Bold"/>
              </a:rPr>
              <a:t>Enzimas que intervienen en el Metabolismo de las HD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ángulo 8"/>
          <p:cNvSpPr/>
          <p:nvPr/>
        </p:nvSpPr>
        <p:spPr>
          <a:xfrm>
            <a:off x="539640" y="1930320"/>
            <a:ext cx="485928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Lecitin Colesterol Acil Transferasa (LCA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Elipse 9"/>
          <p:cNvSpPr/>
          <p:nvPr/>
        </p:nvSpPr>
        <p:spPr>
          <a:xfrm>
            <a:off x="6588000" y="1785960"/>
            <a:ext cx="172908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HD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Elipse 12"/>
          <p:cNvSpPr/>
          <p:nvPr/>
        </p:nvSpPr>
        <p:spPr>
          <a:xfrm>
            <a:off x="5580000" y="2146320"/>
            <a:ext cx="792360" cy="7920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ángulo 8"/>
          <p:cNvSpPr/>
          <p:nvPr/>
        </p:nvSpPr>
        <p:spPr>
          <a:xfrm>
            <a:off x="500040" y="4278240"/>
            <a:ext cx="4859280" cy="1143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Acil CoA Colesterol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Acil Transferasa (ACA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Elipse 9"/>
          <p:cNvSpPr/>
          <p:nvPr/>
        </p:nvSpPr>
        <p:spPr>
          <a:xfrm>
            <a:off x="6548400" y="4133880"/>
            <a:ext cx="1728720" cy="1295280"/>
          </a:xfrm>
          <a:prstGeom prst="ellipse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élulas hepátic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0000"/>
                </a:solidFill>
                <a:latin typeface="Arial Rounded MT Bold"/>
              </a:rPr>
              <a:t>Acción de la </a:t>
            </a:r>
            <a:r>
              <a:rPr b="1" lang="es-AR" sz="2900" spc="-1" strike="noStrike">
                <a:solidFill>
                  <a:srgbClr val="ff0000"/>
                </a:solidFill>
                <a:latin typeface="Arial Rounded MT Bold"/>
              </a:rPr>
              <a:t>Lecitin Colesterol Acil Transferasa (</a:t>
            </a:r>
            <a:r>
              <a:rPr b="1" lang="es-AR" sz="3600" spc="-1" strike="noStrike">
                <a:solidFill>
                  <a:srgbClr val="ff0000"/>
                </a:solidFill>
                <a:latin typeface="Arial Rounded MT Bold"/>
              </a:rPr>
              <a:t>LCAT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2" name="11 Grupo"/>
          <p:cNvGrpSpPr/>
          <p:nvPr/>
        </p:nvGrpSpPr>
        <p:grpSpPr>
          <a:xfrm>
            <a:off x="1357200" y="2071800"/>
            <a:ext cx="6264360" cy="3497040"/>
            <a:chOff x="1357200" y="2071800"/>
            <a:chExt cx="6264360" cy="3497040"/>
          </a:xfrm>
        </p:grpSpPr>
        <p:pic>
          <p:nvPicPr>
            <p:cNvPr id="283" name="Imagen 4" descr="LCAT"/>
            <p:cNvPicPr/>
            <p:nvPr/>
          </p:nvPicPr>
          <p:blipFill>
            <a:blip r:embed="rId1"/>
            <a:stretch/>
          </p:blipFill>
          <p:spPr>
            <a:xfrm>
              <a:off x="1357200" y="2071800"/>
              <a:ext cx="6264360" cy="349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4" name="Grupo 10"/>
            <p:cNvGrpSpPr/>
            <p:nvPr/>
          </p:nvGrpSpPr>
          <p:grpSpPr>
            <a:xfrm>
              <a:off x="2097000" y="3081240"/>
              <a:ext cx="5500800" cy="2427480"/>
              <a:chOff x="2097000" y="3081240"/>
              <a:chExt cx="5500800" cy="2427480"/>
            </a:xfrm>
          </p:grpSpPr>
          <p:sp>
            <p:nvSpPr>
              <p:cNvPr id="285" name="Cuadro de texto 5"/>
              <p:cNvSpPr/>
              <p:nvPr/>
            </p:nvSpPr>
            <p:spPr>
              <a:xfrm>
                <a:off x="2889360" y="3081240"/>
                <a:ext cx="1655640" cy="4597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Times New Roman"/>
                  </a:rPr>
                  <a:t>Colesterol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Cuadro de texto 6"/>
              <p:cNvSpPr/>
              <p:nvPr/>
            </p:nvSpPr>
            <p:spPr>
              <a:xfrm>
                <a:off x="2097000" y="5140440"/>
                <a:ext cx="2143080" cy="3682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Times New Roman"/>
                  </a:rPr>
                  <a:t>Ester de Colesterol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Cuadro de texto 7"/>
              <p:cNvSpPr/>
              <p:nvPr/>
            </p:nvSpPr>
            <p:spPr>
              <a:xfrm>
                <a:off x="4330800" y="3441600"/>
                <a:ext cx="2714400" cy="549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ff0000"/>
                    </a:solidFill>
                    <a:latin typeface="Times New Roman"/>
                  </a:rPr>
                  <a:t>Lecitin colesterol Acil Transferasa (LCAT)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Cuadro de texto 8"/>
              <p:cNvSpPr/>
              <p:nvPr/>
            </p:nvSpPr>
            <p:spPr>
              <a:xfrm>
                <a:off x="6057720" y="3152880"/>
                <a:ext cx="154008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Fosfatidilcolina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Cuadro de texto 9"/>
              <p:cNvSpPr/>
              <p:nvPr/>
            </p:nvSpPr>
            <p:spPr>
              <a:xfrm>
                <a:off x="5049720" y="5097600"/>
                <a:ext cx="2159280" cy="3682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Times New Roman"/>
                  </a:rPr>
                  <a:t>Lisofosfatidilcolina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290" name="10 Conector recto de flecha"/>
            <p:cNvCxnSpPr/>
            <p:nvPr/>
          </p:nvCxnSpPr>
          <p:spPr>
            <a:xfrm flipH="1">
              <a:off x="4595400" y="3438000"/>
              <a:ext cx="2160" cy="92916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3480" y="0"/>
            <a:ext cx="919296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8483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 Rounded MT Bold"/>
              </a:rPr>
              <a:t>Esterificación del colesterol intracel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Imagen 5" descr=""/>
          <p:cNvPicPr/>
          <p:nvPr/>
        </p:nvPicPr>
        <p:blipFill>
          <a:blip r:embed="rId1"/>
          <a:stretch/>
        </p:blipFill>
        <p:spPr>
          <a:xfrm>
            <a:off x="2411280" y="1413000"/>
            <a:ext cx="4148280" cy="5102280"/>
          </a:xfrm>
          <a:prstGeom prst="rect">
            <a:avLst/>
          </a:prstGeom>
          <a:ln w="0">
            <a:noFill/>
          </a:ln>
        </p:spPr>
      </p:pic>
      <p:sp>
        <p:nvSpPr>
          <p:cNvPr id="293" name="Cuadro de texto 7"/>
          <p:cNvSpPr/>
          <p:nvPr/>
        </p:nvSpPr>
        <p:spPr>
          <a:xfrm>
            <a:off x="2787480" y="356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4" name="Grupo 12"/>
          <p:cNvGrpSpPr/>
          <p:nvPr/>
        </p:nvGrpSpPr>
        <p:grpSpPr>
          <a:xfrm>
            <a:off x="1619280" y="3213000"/>
            <a:ext cx="4897440" cy="3412440"/>
            <a:chOff x="1619280" y="3213000"/>
            <a:chExt cx="4897440" cy="3412440"/>
          </a:xfrm>
        </p:grpSpPr>
        <p:sp>
          <p:nvSpPr>
            <p:cNvPr id="295" name="Cuadro de texto 6"/>
            <p:cNvSpPr/>
            <p:nvPr/>
          </p:nvSpPr>
          <p:spPr>
            <a:xfrm>
              <a:off x="3995640" y="3213000"/>
              <a:ext cx="1656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</a:rPr>
                <a:t>Colesterol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Cuadro de texto 8"/>
            <p:cNvSpPr/>
            <p:nvPr/>
          </p:nvSpPr>
          <p:spPr>
            <a:xfrm>
              <a:off x="1619280" y="3645000"/>
              <a:ext cx="2879640" cy="825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1f497d"/>
                  </a:solidFill>
                  <a:latin typeface="Times New Roman"/>
                </a:rPr>
                <a:t>acil CoA-Colesterol Transferasa (ACAT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Cuadro de texto 9"/>
            <p:cNvSpPr/>
            <p:nvPr/>
          </p:nvSpPr>
          <p:spPr>
            <a:xfrm>
              <a:off x="4716360" y="3573360"/>
              <a:ext cx="1656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Acil-Co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Cuadro de texto 10"/>
            <p:cNvSpPr/>
            <p:nvPr/>
          </p:nvSpPr>
          <p:spPr>
            <a:xfrm>
              <a:off x="4788000" y="4005360"/>
              <a:ext cx="1152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CoA-SH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Cuadro de texto 11"/>
            <p:cNvSpPr/>
            <p:nvPr/>
          </p:nvSpPr>
          <p:spPr>
            <a:xfrm>
              <a:off x="3780000" y="6165720"/>
              <a:ext cx="27367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</a:rPr>
                <a:t>Ester de Colesterol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504720" y="476280"/>
            <a:ext cx="8434440" cy="6121440"/>
          </a:xfrm>
          <a:prstGeom prst="rect">
            <a:avLst/>
          </a:prstGeom>
          <a:ln w="0">
            <a:noFill/>
          </a:ln>
        </p:spPr>
      </p:pic>
      <p:cxnSp>
        <p:nvCxnSpPr>
          <p:cNvPr id="301" name="3 Conector recto de flecha"/>
          <p:cNvCxnSpPr/>
          <p:nvPr/>
        </p:nvCxnSpPr>
        <p:spPr>
          <a:xfrm flipV="1">
            <a:off x="5928120" y="1642680"/>
            <a:ext cx="1072440" cy="12153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611280" y="1341360"/>
            <a:ext cx="7704000" cy="36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504d"/>
                </a:solidFill>
                <a:latin typeface="Calibri"/>
              </a:rPr>
              <a:t>Bibliografi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0504d"/>
                </a:solidFill>
                <a:latin typeface="Calibri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0504d"/>
                </a:solidFill>
                <a:latin typeface="Calibri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0504d"/>
                </a:solidFill>
                <a:latin typeface="Calibri"/>
              </a:rPr>
              <a:t>3- Docentes de Química Biológica, “</a:t>
            </a:r>
            <a:r>
              <a:rPr b="0" lang="es-AR" sz="1600" spc="-1" strike="noStrike">
                <a:solidFill>
                  <a:srgbClr val="c0504d"/>
                </a:solidFill>
                <a:latin typeface="Calibri"/>
              </a:rPr>
              <a:t>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0504d"/>
                </a:solidFill>
                <a:latin typeface="Calibri"/>
              </a:rPr>
              <a:t>4- MURRAY R y col., “Bioquimica de Harper”, Ed. El Manual Moderno, 14</a:t>
            </a:r>
            <a:r>
              <a:rPr b="0" lang="en-US" sz="1600" spc="-1" strike="noStrike">
                <a:solidFill>
                  <a:srgbClr val="c0504d"/>
                </a:solidFill>
                <a:latin typeface="Calibri"/>
              </a:rPr>
              <a:t>º ed. (1997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504d"/>
                </a:solidFill>
                <a:latin typeface="Calibri"/>
              </a:rPr>
              <a:t>Bibliografía Complementa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0504d"/>
                </a:solidFill>
                <a:latin typeface="Calibri"/>
              </a:rPr>
              <a:t>1- CAMPBELL Y FARREL, “Bioquimica”, Thomson Eds., 4ta. Ed., (2005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0504d"/>
                </a:solidFill>
                <a:latin typeface="Calibri"/>
              </a:rPr>
              <a:t>2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n 4" descr="fi18p3"/>
          <p:cNvPicPr/>
          <p:nvPr/>
        </p:nvPicPr>
        <p:blipFill>
          <a:blip r:embed="rId1"/>
          <a:stretch/>
        </p:blipFill>
        <p:spPr>
          <a:xfrm>
            <a:off x="1409760" y="0"/>
            <a:ext cx="65912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Cuadro de texto 6"/>
          <p:cNvSpPr/>
          <p:nvPr/>
        </p:nvSpPr>
        <p:spPr>
          <a:xfrm>
            <a:off x="1403280" y="260280"/>
            <a:ext cx="129708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Híg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Cuadro de texto 7"/>
          <p:cNvSpPr/>
          <p:nvPr/>
        </p:nvSpPr>
        <p:spPr>
          <a:xfrm>
            <a:off x="6372360" y="692280"/>
            <a:ext cx="158436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Estóma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uadro de texto 8"/>
          <p:cNvSpPr/>
          <p:nvPr/>
        </p:nvSpPr>
        <p:spPr>
          <a:xfrm>
            <a:off x="1403280" y="836640"/>
            <a:ext cx="144000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Vesícu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uadro de texto 9"/>
          <p:cNvSpPr/>
          <p:nvPr/>
        </p:nvSpPr>
        <p:spPr>
          <a:xfrm>
            <a:off x="1403280" y="1413000"/>
            <a:ext cx="1297080" cy="703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Sales bilia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uadro de texto 10"/>
          <p:cNvSpPr/>
          <p:nvPr/>
        </p:nvSpPr>
        <p:spPr>
          <a:xfrm>
            <a:off x="6300720" y="1557360"/>
            <a:ext cx="151308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Páncr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Cuadro de texto 12"/>
          <p:cNvSpPr/>
          <p:nvPr/>
        </p:nvSpPr>
        <p:spPr>
          <a:xfrm>
            <a:off x="6588000" y="1844640"/>
            <a:ext cx="2376720" cy="1008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Intestino delgado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Lipasas y Esterasas Pan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uadro de texto 13"/>
          <p:cNvSpPr/>
          <p:nvPr/>
        </p:nvSpPr>
        <p:spPr>
          <a:xfrm>
            <a:off x="755640" y="2349360"/>
            <a:ext cx="2160720" cy="1008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Triglicérid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ansportados por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VLD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uadro de texto 14"/>
          <p:cNvSpPr/>
          <p:nvPr/>
        </p:nvSpPr>
        <p:spPr>
          <a:xfrm>
            <a:off x="1187280" y="3357720"/>
            <a:ext cx="1297080" cy="703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Tejido adipo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uadro de texto 15"/>
          <p:cNvSpPr/>
          <p:nvPr/>
        </p:nvSpPr>
        <p:spPr>
          <a:xfrm>
            <a:off x="6300720" y="4149720"/>
            <a:ext cx="1871640" cy="703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Ac. gras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búm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Cuadro de texto 16"/>
          <p:cNvSpPr/>
          <p:nvPr/>
        </p:nvSpPr>
        <p:spPr>
          <a:xfrm>
            <a:off x="6516720" y="3070080"/>
            <a:ext cx="2413080" cy="1008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Triglicérid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ansportados p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Quilomicr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uadro de texto 17"/>
          <p:cNvSpPr/>
          <p:nvPr/>
        </p:nvSpPr>
        <p:spPr>
          <a:xfrm>
            <a:off x="4067280" y="3357720"/>
            <a:ext cx="12240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Tejido adipos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uadro de texto 18"/>
          <p:cNvSpPr/>
          <p:nvPr/>
        </p:nvSpPr>
        <p:spPr>
          <a:xfrm>
            <a:off x="4211640" y="4653000"/>
            <a:ext cx="1008000" cy="824040"/>
          </a:xfrm>
          <a:prstGeom prst="rect">
            <a:avLst/>
          </a:prstGeom>
          <a:solidFill>
            <a:srgbClr val="ffca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úscul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Híga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razó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15 Conector recto"/>
          <p:cNvSpPr/>
          <p:nvPr/>
        </p:nvSpPr>
        <p:spPr>
          <a:xfrm flipH="1" flipV="1">
            <a:off x="5857560" y="3286080"/>
            <a:ext cx="571320" cy="9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642960" y="479520"/>
            <a:ext cx="8177040" cy="61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Cuadro de texto 5"/>
          <p:cNvSpPr/>
          <p:nvPr/>
        </p:nvSpPr>
        <p:spPr>
          <a:xfrm>
            <a:off x="217440" y="115920"/>
            <a:ext cx="867564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70c0"/>
                </a:solidFill>
                <a:latin typeface="Arial Rounded MT Bold"/>
              </a:rPr>
              <a:t>COMPONENTES DE UNA LIPOPROTE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Grupo 11"/>
          <p:cNvGrpSpPr/>
          <p:nvPr/>
        </p:nvGrpSpPr>
        <p:grpSpPr>
          <a:xfrm>
            <a:off x="1231920" y="1198440"/>
            <a:ext cx="6913440" cy="5567400"/>
            <a:chOff x="1231920" y="1198440"/>
            <a:chExt cx="6913440" cy="5567400"/>
          </a:xfrm>
        </p:grpSpPr>
        <p:pic>
          <p:nvPicPr>
            <p:cNvPr id="68" name="Imagen 4" descr=""/>
            <p:cNvPicPr/>
            <p:nvPr/>
          </p:nvPicPr>
          <p:blipFill>
            <a:blip r:embed="rId1"/>
            <a:stretch/>
          </p:blipFill>
          <p:spPr>
            <a:xfrm>
              <a:off x="1305000" y="1268280"/>
              <a:ext cx="684036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Cuadro de texto 7"/>
            <p:cNvSpPr/>
            <p:nvPr/>
          </p:nvSpPr>
          <p:spPr>
            <a:xfrm>
              <a:off x="1231920" y="1822320"/>
              <a:ext cx="1584360" cy="459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roteín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Cuadro de texto 8"/>
            <p:cNvSpPr/>
            <p:nvPr/>
          </p:nvSpPr>
          <p:spPr>
            <a:xfrm>
              <a:off x="2960640" y="1198440"/>
              <a:ext cx="1800360" cy="459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Fosfolípid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Cuadro de texto 9"/>
            <p:cNvSpPr/>
            <p:nvPr/>
          </p:nvSpPr>
          <p:spPr>
            <a:xfrm>
              <a:off x="5265720" y="1271160"/>
              <a:ext cx="1584360" cy="8254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Colesterol lib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Cuadro de texto 10"/>
            <p:cNvSpPr/>
            <p:nvPr/>
          </p:nvSpPr>
          <p:spPr>
            <a:xfrm>
              <a:off x="3284640" y="4079520"/>
              <a:ext cx="2952720" cy="12639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Esteres de Colesterol  Triacilglicérid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Grupo 8"/>
          <p:cNvGrpSpPr/>
          <p:nvPr/>
        </p:nvGrpSpPr>
        <p:grpSpPr>
          <a:xfrm>
            <a:off x="250920" y="260280"/>
            <a:ext cx="8641440" cy="6263640"/>
            <a:chOff x="250920" y="260280"/>
            <a:chExt cx="8641440" cy="6263640"/>
          </a:xfrm>
        </p:grpSpPr>
        <p:grpSp>
          <p:nvGrpSpPr>
            <p:cNvPr id="76" name="Grupo 6"/>
            <p:cNvGrpSpPr/>
            <p:nvPr/>
          </p:nvGrpSpPr>
          <p:grpSpPr>
            <a:xfrm>
              <a:off x="250920" y="260280"/>
              <a:ext cx="8641440" cy="6263640"/>
              <a:chOff x="250920" y="260280"/>
              <a:chExt cx="8641440" cy="6263640"/>
            </a:xfrm>
          </p:grpSpPr>
          <p:pic>
            <p:nvPicPr>
              <p:cNvPr id="77" name="Imagen 4" descr="2figura02[1]"/>
              <p:cNvPicPr/>
              <p:nvPr/>
            </p:nvPicPr>
            <p:blipFill>
              <a:blip r:embed="rId1"/>
              <a:stretch/>
            </p:blipFill>
            <p:spPr>
              <a:xfrm>
                <a:off x="250920" y="260280"/>
                <a:ext cx="8641440" cy="626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Rectángulo 5"/>
              <p:cNvSpPr/>
              <p:nvPr/>
            </p:nvSpPr>
            <p:spPr>
              <a:xfrm>
                <a:off x="3987360" y="1200600"/>
                <a:ext cx="1324800" cy="862560"/>
              </a:xfrm>
              <a:prstGeom prst="rect">
                <a:avLst/>
              </a:prstGeom>
              <a:solidFill>
                <a:srgbClr val="f89c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9" name="Rectángulo 7"/>
            <p:cNvSpPr/>
            <p:nvPr/>
          </p:nvSpPr>
          <p:spPr>
            <a:xfrm>
              <a:off x="7259040" y="1200600"/>
              <a:ext cx="1556280" cy="707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9 CuadroTexto"/>
          <p:cNvSpPr/>
          <p:nvPr/>
        </p:nvSpPr>
        <p:spPr>
          <a:xfrm>
            <a:off x="214200" y="514368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&gt;&gt; TG exógenos (intestinal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9 CuadroTexto"/>
          <p:cNvSpPr/>
          <p:nvPr/>
        </p:nvSpPr>
        <p:spPr>
          <a:xfrm>
            <a:off x="2143080" y="514368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&gt;&gt; TG endógenos (hepático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9 CuadroTexto"/>
          <p:cNvSpPr/>
          <p:nvPr/>
        </p:nvSpPr>
        <p:spPr>
          <a:xfrm>
            <a:off x="4357800" y="52023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&lt;TG  &gt;&gt; 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9 CuadroTexto"/>
          <p:cNvSpPr/>
          <p:nvPr/>
        </p:nvSpPr>
        <p:spPr>
          <a:xfrm>
            <a:off x="6929280" y="521496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&gt;&gt;  CL y FF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357120" y="428760"/>
          <a:ext cx="8643960" cy="6072120"/>
        </p:xfrm>
        <a:graphic>
          <a:graphicData uri="http://schemas.openxmlformats.org/drawingml/2006/table">
            <a:tbl>
              <a:tblPr/>
              <a:tblGrid>
                <a:gridCol w="1708200"/>
                <a:gridCol w="2727360"/>
                <a:gridCol w="4208400"/>
              </a:tblGrid>
              <a:tr h="484560">
                <a:tc gridSpan="3"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0000"/>
                          </a:solidFill>
                          <a:latin typeface="Tahoma"/>
                          <a:ea typeface="Calibri"/>
                        </a:rPr>
                        <a:t>Origen y funciones de las lipoproteín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19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Ti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Origen</a:t>
                      </a: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Función princip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    </a:t>
                      </a: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QM</a:t>
                      </a: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    </a:t>
                      </a: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Intestino</a:t>
                      </a: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70c0"/>
                          </a:solidFill>
                          <a:latin typeface="Tahoma"/>
                          <a:ea typeface="Calibri"/>
                        </a:rPr>
                        <a:t>Transporte de triglicéridos  de la diet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Residuos de Q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      </a:t>
                      </a: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Plasma</a:t>
                      </a: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70c0"/>
                          </a:solidFill>
                          <a:latin typeface="Tahoma"/>
                          <a:ea typeface="Calibri"/>
                        </a:rPr>
                        <a:t>Liberación de lípidos de la alimentación en el híga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9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  </a:t>
                      </a: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VLDL</a:t>
                      </a: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Híg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70c0"/>
                          </a:solidFill>
                          <a:latin typeface="Tahoma"/>
                          <a:ea typeface="Calibri"/>
                        </a:rPr>
                        <a:t>Transporte de los triglicéridos desde el hígado a otros tejid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5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      </a:t>
                      </a: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Plasma</a:t>
                      </a: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70c0"/>
                          </a:solidFill>
                          <a:latin typeface="Tahoma"/>
                          <a:ea typeface="Calibri"/>
                        </a:rPr>
                        <a:t>Primer producto formado por el catabolismo de las VLD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LDL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Plasma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70c0"/>
                          </a:solidFill>
                          <a:latin typeface="Tahoma"/>
                          <a:ea typeface="Calibri"/>
                        </a:rPr>
                        <a:t>Producto final del catabolismo de las VLDL ricas en colesterol esterifica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H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Hígado, intesti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70c0"/>
                          </a:solidFill>
                          <a:latin typeface="Tahoma"/>
                          <a:ea typeface="Calibri"/>
                        </a:rPr>
                        <a:t>Eliminación del exceso de colesterol de tejidos y L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Grupo 8"/>
          <p:cNvGrpSpPr/>
          <p:nvPr/>
        </p:nvGrpSpPr>
        <p:grpSpPr>
          <a:xfrm>
            <a:off x="250920" y="260280"/>
            <a:ext cx="8641440" cy="6263640"/>
            <a:chOff x="250920" y="260280"/>
            <a:chExt cx="8641440" cy="6263640"/>
          </a:xfrm>
        </p:grpSpPr>
        <p:grpSp>
          <p:nvGrpSpPr>
            <p:cNvPr id="88" name="Grupo 6"/>
            <p:cNvGrpSpPr/>
            <p:nvPr/>
          </p:nvGrpSpPr>
          <p:grpSpPr>
            <a:xfrm>
              <a:off x="250920" y="260280"/>
              <a:ext cx="8641440" cy="6263640"/>
              <a:chOff x="250920" y="260280"/>
              <a:chExt cx="8641440" cy="6263640"/>
            </a:xfrm>
          </p:grpSpPr>
          <p:pic>
            <p:nvPicPr>
              <p:cNvPr id="89" name="Imagen 4" descr="2figura02[1]"/>
              <p:cNvPicPr/>
              <p:nvPr/>
            </p:nvPicPr>
            <p:blipFill>
              <a:blip r:embed="rId1"/>
              <a:stretch/>
            </p:blipFill>
            <p:spPr>
              <a:xfrm>
                <a:off x="250920" y="260280"/>
                <a:ext cx="8641440" cy="626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Rectángulo 5"/>
              <p:cNvSpPr/>
              <p:nvPr/>
            </p:nvSpPr>
            <p:spPr>
              <a:xfrm>
                <a:off x="3987360" y="1200600"/>
                <a:ext cx="1324800" cy="862560"/>
              </a:xfrm>
              <a:prstGeom prst="rect">
                <a:avLst/>
              </a:prstGeom>
              <a:solidFill>
                <a:srgbClr val="f89c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1" name="Rectángulo 7"/>
            <p:cNvSpPr/>
            <p:nvPr/>
          </p:nvSpPr>
          <p:spPr>
            <a:xfrm>
              <a:off x="7259040" y="1200600"/>
              <a:ext cx="1556280" cy="707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8 CuadroTexto"/>
          <p:cNvSpPr/>
          <p:nvPr/>
        </p:nvSpPr>
        <p:spPr>
          <a:xfrm>
            <a:off x="285840" y="5786280"/>
            <a:ext cx="1643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Apo B4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9 CuadroTexto"/>
          <p:cNvSpPr/>
          <p:nvPr/>
        </p:nvSpPr>
        <p:spPr>
          <a:xfrm>
            <a:off x="2428920" y="591660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Apo B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po CII, Apo 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10 CuadroTexto"/>
          <p:cNvSpPr/>
          <p:nvPr/>
        </p:nvSpPr>
        <p:spPr>
          <a:xfrm>
            <a:off x="4078080" y="5854680"/>
            <a:ext cx="10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Apo B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Apo 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11 CuadroTexto"/>
          <p:cNvSpPr/>
          <p:nvPr/>
        </p:nvSpPr>
        <p:spPr>
          <a:xfrm>
            <a:off x="5429160" y="58579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Apo B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12 CuadroTexto"/>
          <p:cNvSpPr/>
          <p:nvPr/>
        </p:nvSpPr>
        <p:spPr>
          <a:xfrm>
            <a:off x="6929280" y="5786280"/>
            <a:ext cx="1928880" cy="6426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Apo AI-IV, Apo 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Apo C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9 CuadroTexto"/>
          <p:cNvSpPr/>
          <p:nvPr/>
        </p:nvSpPr>
        <p:spPr>
          <a:xfrm>
            <a:off x="214200" y="514368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&gt;&gt; TG exógenos (intestinal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9 CuadroTexto"/>
          <p:cNvSpPr/>
          <p:nvPr/>
        </p:nvSpPr>
        <p:spPr>
          <a:xfrm>
            <a:off x="2143080" y="514368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&gt;&gt; TG endógenos (hepático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9 CuadroTexto"/>
          <p:cNvSpPr/>
          <p:nvPr/>
        </p:nvSpPr>
        <p:spPr>
          <a:xfrm>
            <a:off x="4357800" y="52023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&lt;TG  &gt;&gt; 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9 CuadroTexto"/>
          <p:cNvSpPr/>
          <p:nvPr/>
        </p:nvSpPr>
        <p:spPr>
          <a:xfrm>
            <a:off x="6929280" y="521496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&gt;&gt;  CL y FF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6 Grupo"/>
          <p:cNvGrpSpPr/>
          <p:nvPr/>
        </p:nvGrpSpPr>
        <p:grpSpPr>
          <a:xfrm>
            <a:off x="76320" y="571680"/>
            <a:ext cx="9067680" cy="5464080"/>
            <a:chOff x="76320" y="571680"/>
            <a:chExt cx="9067680" cy="5464080"/>
          </a:xfrm>
        </p:grpSpPr>
        <p:grpSp>
          <p:nvGrpSpPr>
            <p:cNvPr id="102" name="4 Grupo"/>
            <p:cNvGrpSpPr/>
            <p:nvPr/>
          </p:nvGrpSpPr>
          <p:grpSpPr>
            <a:xfrm>
              <a:off x="76320" y="571680"/>
              <a:ext cx="8925120" cy="5464080"/>
              <a:chOff x="76320" y="571680"/>
              <a:chExt cx="8925120" cy="5464080"/>
            </a:xfrm>
          </p:grpSpPr>
          <p:pic>
            <p:nvPicPr>
              <p:cNvPr id="103" name="Imagen 2" descr=""/>
              <p:cNvPicPr/>
              <p:nvPr/>
            </p:nvPicPr>
            <p:blipFill>
              <a:blip r:embed="rId1"/>
              <a:stretch/>
            </p:blipFill>
            <p:spPr>
              <a:xfrm>
                <a:off x="76320" y="571680"/>
                <a:ext cx="8925120" cy="546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2 CuadroTexto"/>
              <p:cNvSpPr/>
              <p:nvPr/>
            </p:nvSpPr>
            <p:spPr>
              <a:xfrm>
                <a:off x="300960" y="714240"/>
                <a:ext cx="23752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Calibri"/>
                  </a:rPr>
                  <a:t>Apolipoproteínas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3 CuadroTexto"/>
              <p:cNvSpPr/>
              <p:nvPr/>
            </p:nvSpPr>
            <p:spPr>
              <a:xfrm>
                <a:off x="4473000" y="714240"/>
                <a:ext cx="274716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Calibri"/>
                  </a:rPr>
                  <a:t>            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Calibri"/>
                  </a:rPr>
                  <a:t>Función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6" name="5 CuadroTexto"/>
            <p:cNvSpPr/>
            <p:nvPr/>
          </p:nvSpPr>
          <p:spPr>
            <a:xfrm>
              <a:off x="3643200" y="4641480"/>
              <a:ext cx="5500800" cy="42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alibri"/>
                </a:rPr>
                <a:t>Lipoprotein Lipasa del endotelio capilar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00:13:00Z</dcterms:created>
  <dc:creator>Fanny</dc:creator>
  <dc:description/>
  <dc:language>en-US</dc:language>
  <cp:lastModifiedBy>Your User Name</cp:lastModifiedBy>
  <dcterms:modified xsi:type="dcterms:W3CDTF">2012-09-23T23:07:26Z</dcterms:modified>
  <cp:revision>124</cp:revision>
  <dc:subject/>
  <dc:title>Presentación de PowerPoint</dc:title>
</cp:coreProperties>
</file>